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ush.wav" ContentType="audio/x-wav"/>
  <Override PartName="/ppt/media/image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camera.wav" ContentType="audio/x-wav"/>
  <Override PartName="/ppt/media/image11.png" ContentType="image/png"/>
  <Override PartName="/ppt/media/image16.gif" ContentType="image/gif"/>
  <Override PartName="/ppt/media/image13.gif" ContentType="image/gif"/>
  <Override PartName="/ppt/media/image4.jpeg" ContentType="image/jpeg"/>
  <Override PartName="/ppt/media/cashreg.wav" ContentType="audio/x-wav"/>
  <Override PartName="/ppt/media/image12.jpeg" ContentType="image/jpeg"/>
  <Override PartName="/ppt/media/image14.gif" ContentType="image/gif"/>
  <Override PartName="/ppt/media/type.wav" ContentType="audio/x-wav"/>
  <Override PartName="/ppt/media/image1.png" ContentType="image/png"/>
  <Override PartName="/ppt/media/image3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自定义放映 1" id="0">
      <p:sldLst>
        <p:sld r:id="rId20"/>
      </p:sldLst>
    </p:custShow>
    <p:custShow name="自定义放映 2" id="1">
      <p:sldLst>
        <p:sld r:id="rId20"/>
        <p:sld r:id="rId21"/>
        <p:sld r:id="rId22"/>
        <p:sld r:id="rId23"/>
        <p:sld r:id="rId24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0F8A-C5D2-410E-9A05-3687E3B01102}" type="slidenum">
              <a:rPr b="1" lang="zh-CN" sz="1200" spc="-1" strike="noStrike">
                <a:solidFill>
                  <a:srgbClr val="ff66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2FD5-5B95-4B77-B3A1-4EF1E207AD9A}" type="slidenum">
              <a:rPr b="1" lang="zh-CN" sz="1200" spc="-1" strike="noStrike">
                <a:solidFill>
                  <a:srgbClr val="ff66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6047-F9B0-480C-8F28-D070F830DBC3}" type="slidenum">
              <a:rPr b="1" lang="zh-CN" sz="1200" spc="-1" strike="noStrike">
                <a:solidFill>
                  <a:srgbClr val="ff66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021-5571-4EE4-9B4A-F018D1EC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20C-7840-4936-B211-D55D9D3F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706-1ECB-49EA-A6BD-816271AB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23F-B58C-4320-B40F-264641C4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B59-E8D7-40B9-BE01-D848FA87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758-FCCC-480A-A5AD-6C97EE70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3D8-14DB-4E6F-BF5F-914A0AFE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E89-9F7D-488D-9E9D-3F8189DC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EBA-7644-4B6C-B0F7-0F84EBB2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4E6-37F3-48B3-B7F7-E3C7A7DB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9BB-95E7-41E5-B057-FC1C5B7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00F-377D-40B6-B0E7-FE41CFD9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FF3F-EA02-4324-89A9-F7C29E46C4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84360" y="213372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ff"/>
                </a:solidFill>
                <a:latin typeface="华文行楷"/>
                <a:ea typeface="华文行楷"/>
              </a:rPr>
              <a:t>拒绝诱惑    廉洁律身</a:t>
            </a:r>
            <a:endParaRPr b="1" lang="en-US" sz="5400" spc="-1" strike="noStrike">
              <a:solidFill>
                <a:srgbClr val="ff66ff"/>
              </a:solidFill>
              <a:latin typeface="Arial"/>
            </a:endParaRPr>
          </a:p>
        </p:txBody>
      </p:sp>
      <p:pic>
        <p:nvPicPr>
          <p:cNvPr id="49" name="cqjw1-1.mp3" descr=""/>
          <p:cNvPicPr/>
          <p:nvPr/>
        </p:nvPicPr>
        <p:blipFill>
          <a:blip r:embed="rId1"/>
          <a:stretch/>
        </p:blipFill>
        <p:spPr>
          <a:xfrm>
            <a:off x="7236000" y="516420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9231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lzmh060918"/>
          <p:cNvPicPr/>
          <p:nvPr/>
        </p:nvPicPr>
        <p:blipFill>
          <a:blip r:embed="rId1"/>
          <a:stretch/>
        </p:blipFill>
        <p:spPr>
          <a:xfrm>
            <a:off x="324000" y="538200"/>
            <a:ext cx="8351640" cy="5727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lzmh060728"/>
          <p:cNvPicPr/>
          <p:nvPr/>
        </p:nvPicPr>
        <p:blipFill>
          <a:blip r:embed="rId1"/>
          <a:stretch/>
        </p:blipFill>
        <p:spPr>
          <a:xfrm>
            <a:off x="971640" y="189000"/>
            <a:ext cx="7345440" cy="6610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322720" y="1405080"/>
            <a:ext cx="4791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克勤于邦，克俭于家。       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尚书•大禹谟》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为锢身锁，利是焚身火。  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居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赠诸少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奢靡之始，危亡之渐。 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唐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卷一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孙无忌列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廉者，民之表也；贪者，民之贼也。 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包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乞不用赃吏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 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苟非吾之所有，虽一毫而莫取。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壁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55640" y="4046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名言，说主题</a:t>
            </a:r>
            <a:endParaRPr b="1" lang="en-US" sz="36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8720" y="836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783240" y="1916280"/>
            <a:ext cx="149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拒礼诗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明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】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况钟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清风两袖朝天去，不带江南一寸棉。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惭愧士民相饯送，马前洒泪注如泉。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580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古诗阅读，议主题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65440" y="7938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文言阅读，思主题</a:t>
            </a:r>
            <a:endParaRPr b="1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-10254600" y="191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900000" y="1844640"/>
            <a:ext cx="716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子罕弗受玉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宋人或得玉，献诸子罕，子罕弗受。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献玉者曰：“以示玉人，玉人以为宝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也，故敢献之。”子罕曰：“我以不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贪为宝，尔以玉为宝。若以与我，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皆丧宝也。 不若人有其宝。”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（《左传》襄公十五年</a:t>
            </a:r>
            <a:r>
              <a:rPr b="1" lang="zh-CN" sz="1800" spc="-1" strike="noStrike">
                <a:solidFill>
                  <a:srgbClr val="3399ff"/>
                </a:solidFill>
                <a:latin typeface="Arial"/>
              </a:rPr>
              <a:t>）</a:t>
            </a:r>
            <a:endParaRPr b="1" lang="en-US" sz="18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11280" y="1125360"/>
            <a:ext cx="80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钱太守 </a:t>
            </a:r>
            <a:endParaRPr b="1" lang="en-US" sz="36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东汉时，一位叫刘宠的人任会稽太</a:t>
            </a:r>
            <a:endParaRPr b="1" lang="en-US" sz="36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守。他改革弊政，废除苛捐杂税，为官十分清廉。后来他被朝廷调任为大匠之</a:t>
            </a:r>
            <a:endParaRPr b="1" lang="en-US" sz="36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职，临走，当地百姓主动凑钱来送给即将离开的刘宠 ，刘宠不受。后来实在盛情难却，就从中拿了一枚铜钱象征性地收下。他因此而被称为“一 钱太守”</a:t>
            </a:r>
            <a:endParaRPr b="1" lang="en-US" sz="36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64000" y="299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读古代故事，说主题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135910"/>
          <p:cNvPicPr/>
          <p:nvPr/>
        </p:nvPicPr>
        <p:blipFill>
          <a:blip r:embed="rId1"/>
          <a:stretch/>
        </p:blipFill>
        <p:spPr>
          <a:xfrm rot="700200">
            <a:off x="709200" y="584280"/>
            <a:ext cx="2158920" cy="1746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692360" y="1989000"/>
            <a:ext cx="48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我说！因为我胆大！</a:t>
            </a:r>
            <a:endParaRPr b="1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700360" y="3500280"/>
            <a:ext cx="54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我说！因为我最聪明！</a:t>
            </a:r>
            <a:endParaRPr b="1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276720" y="404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讲你知道的！</a:t>
            </a:r>
            <a:endParaRPr b="1" lang="en-US" sz="3600" spc="-1" strike="noStrike">
              <a:solidFill>
                <a:srgbClr val="ff66ff"/>
              </a:solidFill>
              <a:latin typeface="Arial"/>
            </a:endParaRPr>
          </a:p>
        </p:txBody>
      </p:sp>
      <p:pic>
        <p:nvPicPr>
          <p:cNvPr id="79" name="Picture 10" descr="241"/>
          <p:cNvPicPr/>
          <p:nvPr/>
        </p:nvPicPr>
        <p:blipFill>
          <a:blip r:embed="rId2"/>
          <a:stretch/>
        </p:blipFill>
        <p:spPr>
          <a:xfrm>
            <a:off x="1258920" y="4653000"/>
            <a:ext cx="140508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lb6"/>
          <p:cNvPicPr/>
          <p:nvPr/>
        </p:nvPicPr>
        <p:blipFill>
          <a:blip r:embed="rId3"/>
          <a:stretch/>
        </p:blipFill>
        <p:spPr>
          <a:xfrm rot="20136600">
            <a:off x="3083040" y="4188960"/>
            <a:ext cx="2415960" cy="2416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121480" y="4446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</a:rPr>
              <a:t>七嘴八舌谈感受</a:t>
            </a:r>
            <a:endParaRPr b="1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pic>
        <p:nvPicPr>
          <p:cNvPr id="82" name="Picture 4" descr="0196"/>
          <p:cNvPicPr/>
          <p:nvPr/>
        </p:nvPicPr>
        <p:blipFill>
          <a:blip r:embed="rId1"/>
          <a:stretch/>
        </p:blipFill>
        <p:spPr>
          <a:xfrm>
            <a:off x="3419640" y="1700280"/>
            <a:ext cx="1622160" cy="1622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lb7"/>
          <p:cNvPicPr/>
          <p:nvPr/>
        </p:nvPicPr>
        <p:blipFill>
          <a:blip r:embed="rId2"/>
          <a:stretch/>
        </p:blipFill>
        <p:spPr>
          <a:xfrm>
            <a:off x="2627280" y="3716280"/>
            <a:ext cx="3981600" cy="1978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6374880" y="1197000"/>
            <a:ext cx="219132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我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说！因为我</a:t>
            </a:r>
            <a:endParaRPr b="1" lang="en-US" sz="44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既最胆大</a:t>
            </a:r>
            <a:endParaRPr b="1" lang="en-US" sz="44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又最聪明！</a:t>
            </a:r>
            <a:endParaRPr b="1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72480" y="1557360"/>
            <a:ext cx="219132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我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说！因为我</a:t>
            </a:r>
            <a:endParaRPr b="1" lang="en-US" sz="44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既最胆大</a:t>
            </a:r>
            <a:endParaRPr b="1" lang="en-US" sz="44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又最聪明！</a:t>
            </a:r>
            <a:endParaRPr b="1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71640" y="580536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华文行楷"/>
                <a:ea typeface="华文行楷"/>
              </a:rPr>
              <a:t>拒绝诱惑      廉洁律身</a:t>
            </a:r>
            <a:endParaRPr b="1" lang="en-US" sz="40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670040" y="161460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120480" y="1557360"/>
            <a:ext cx="354276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廉洁对联</a:t>
            </a:r>
            <a:endParaRPr b="1" lang="en-US" sz="40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）朝省夕省朝夕自省，上廉下廉上下齐廉。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（２）多敲“枕边钟”，常吹“廉政风”。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（ 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）戒酒戒色戒贪欲，律己律妻律子女。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438720" y="2637000"/>
            <a:ext cx="79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　 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52360" y="486900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84120" y="1700280"/>
            <a:ext cx="1478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人生观、价值观、权力观，观观要正确；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金钱欲、美色欲、物质欲，欲欲当自律。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、人心如秤称量谁轻谁重，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民意似镜照出孰贪孰廉。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、事权财权人权，贪权是腐败之源；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公开公正公平，公心乃廉政之基。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、民不容贪，法不护腐。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、养一身正气，去半点私心。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301400" y="26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漫画导入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pic>
        <p:nvPicPr>
          <p:cNvPr id="51" name="Picture 5" descr="lzmh0929"/>
          <p:cNvPicPr/>
          <p:nvPr/>
        </p:nvPicPr>
        <p:blipFill>
          <a:blip r:embed="rId1"/>
          <a:stretch/>
        </p:blipFill>
        <p:spPr>
          <a:xfrm>
            <a:off x="684360" y="1125360"/>
            <a:ext cx="7704000" cy="53168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 flipH="1" flipV="1">
            <a:off x="395280" y="2852640"/>
            <a:ext cx="854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84360" y="1557360"/>
            <a:ext cx="755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１，一人不廉，全家不圆。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２，马行千里不失蹄，只因步步谨慎；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人生一世少错误，就在警钟常鸣。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３，不请、不送、不拍、不谀，无官何惧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宜勤、宜俭、宜清、宜廉，为仆欣然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! 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68360" y="220500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96720" y="206064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68360" y="537372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39640" y="5302080"/>
            <a:ext cx="3096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005560" y="549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我来试一试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86600" y="14508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官流芳百世，万代景仰；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455840" y="22431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605680" y="227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贪官臭名昭著，遗臭万年！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370240" y="3068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人人廉政，腐败必亡；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561840" y="378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人人自律，党风自强。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441520" y="4581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执政为民，民心所向；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grpSp>
        <p:nvGrpSpPr>
          <p:cNvPr id="105" name="组合 12"/>
          <p:cNvGrpSpPr/>
          <p:nvPr/>
        </p:nvGrpSpPr>
        <p:grpSpPr>
          <a:xfrm>
            <a:off x="-207720" y="5429160"/>
            <a:ext cx="5252040" cy="795600"/>
            <a:chOff x="-207720" y="5429160"/>
            <a:chExt cx="5252040" cy="795600"/>
          </a:xfrm>
        </p:grpSpPr>
        <p:sp>
          <p:nvSpPr>
            <p:cNvPr id="106" name="Text Box 11"/>
            <p:cNvSpPr/>
            <p:nvPr/>
          </p:nvSpPr>
          <p:spPr>
            <a:xfrm>
              <a:off x="4465800" y="5429160"/>
              <a:ext cx="57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66ff"/>
                  </a:solidFill>
                  <a:latin typeface="Arial"/>
                </a:rPr>
                <a:t>自取灭亡。</a:t>
              </a:r>
              <a:endParaRPr b="1" lang="en-US" sz="3200" spc="-1" strike="noStrike">
                <a:solidFill>
                  <a:srgbClr val="ff66ff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-207720" y="5643360"/>
              <a:ext cx="38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66ff"/>
                  </a:solidFill>
                  <a:latin typeface="Arial"/>
                </a:rPr>
                <a:t>　　　　　</a:t>
              </a:r>
              <a:r>
                <a:rPr b="1" lang="zh-CN" sz="3200" spc="-1" strike="noStrike" u="sng">
                  <a:solidFill>
                    <a:srgbClr val="ff66ff"/>
                  </a:solidFill>
                  <a:uFillTx/>
                  <a:latin typeface="Arial"/>
                </a:rPr>
                <a:t>　　　</a:t>
              </a:r>
              <a:r>
                <a:rPr b="1" lang="zh-CN" sz="3200" spc="-1" strike="noStrike">
                  <a:solidFill>
                    <a:srgbClr val="ff66ff"/>
                  </a:solidFill>
                  <a:latin typeface="Arial"/>
                </a:rPr>
                <a:t>　</a:t>
              </a:r>
              <a:endParaRPr b="1" lang="en-US" sz="3200" spc="-1" strike="noStrike">
                <a:solidFill>
                  <a:srgbClr val="ff66ff"/>
                </a:solidFill>
                <a:latin typeface="Arial"/>
              </a:endParaRPr>
            </a:p>
          </p:txBody>
        </p:sp>
      </p:grpSp>
      <p:sp>
        <p:nvSpPr>
          <p:cNvPr id="108" name="Text Box 13"/>
          <p:cNvSpPr/>
          <p:nvPr/>
        </p:nvSpPr>
        <p:spPr>
          <a:xfrm>
            <a:off x="2054880" y="5429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掌权为己，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786720" y="542916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7286760" y="542916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7788240" y="5429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0"/>
            <a:ext cx="914400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感事书怀       七 古    手 莫 伸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陈毅</a:t>
            </a:r>
            <a:endParaRPr b="1" lang="en-US" sz="32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手莫伸，伸手必被捉。</a:t>
            </a:r>
            <a:endParaRPr b="1" lang="en-US" sz="28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党和人民在监督，众目睽睽难逃脱。</a:t>
            </a:r>
            <a:endParaRPr b="1" lang="en-US" sz="28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汝言惧捉手不伸，他道不伸能自觉，</a:t>
            </a:r>
            <a:endParaRPr b="1" lang="en-US" sz="28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其实想伸不敢伸，人民咫尺手自缩，</a:t>
            </a:r>
            <a:endParaRPr b="1" lang="en-US" sz="28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岂不爱权位，权位高高耸山岳。</a:t>
            </a:r>
            <a:endParaRPr b="1" lang="en-US" sz="28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岂不爱粉黛，爱河饮尽犹饥渴。</a:t>
            </a:r>
            <a:endParaRPr b="1" lang="en-US" sz="28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岂不爱推戴，颂歌盈耳神仙乐。</a:t>
            </a:r>
            <a:endParaRPr b="1" lang="en-US" sz="28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笫一想到不忘本，来自人民莫作恶。</a:t>
            </a:r>
            <a:endParaRPr b="1" lang="en-US" sz="28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笫二想到党培养，无党岂能有所作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第三想到衣食住，若无人民岂能活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第四想到虽有功，岂无过失应惭怍。</a:t>
            </a:r>
            <a:endParaRPr b="1" lang="en-US" sz="28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吁嗟乎，九牛一毫莫自夸，骄傲自满必翻车。</a:t>
            </a:r>
            <a:endParaRPr b="1" lang="en-US" sz="2800" spc="-1" strike="noStrike">
              <a:solidFill>
                <a:srgbClr val="ff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历览古今多少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成由谦逊败由奢。</a:t>
            </a:r>
            <a:endParaRPr b="1" lang="en-US" sz="2800" spc="-1" strike="noStrike">
              <a:solidFill>
                <a:srgbClr val="ff66ff"/>
              </a:solidFill>
              <a:latin typeface="Arial"/>
            </a:endParaRPr>
          </a:p>
        </p:txBody>
      </p:sp>
      <p:pic>
        <p:nvPicPr>
          <p:cNvPr id="113" name="cqjw5-1.mp3" descr=""/>
          <p:cNvPicPr/>
          <p:nvPr/>
        </p:nvPicPr>
        <p:blipFill>
          <a:blip r:embed="rId1"/>
          <a:stretch/>
        </p:blipFill>
        <p:spPr>
          <a:xfrm>
            <a:off x="7885080" y="459900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36" dur="indefinite" restart="never" nodeType="tmRoot">
          <p:childTnLst>
            <p:seq>
              <p:cTn id="23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11996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lzmh060914"/>
          <p:cNvPicPr/>
          <p:nvPr/>
        </p:nvPicPr>
        <p:blipFill>
          <a:blip r:embed="rId1"/>
          <a:stretch/>
        </p:blipFill>
        <p:spPr>
          <a:xfrm>
            <a:off x="1835280" y="260280"/>
            <a:ext cx="591948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zmh0928"/>
          <p:cNvPicPr/>
          <p:nvPr/>
        </p:nvPicPr>
        <p:blipFill>
          <a:blip r:embed="rId1"/>
          <a:stretch/>
        </p:blipFill>
        <p:spPr>
          <a:xfrm>
            <a:off x="612720" y="981000"/>
            <a:ext cx="7920000" cy="44132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lzmh1206_2"/>
          <p:cNvPicPr/>
          <p:nvPr/>
        </p:nvPicPr>
        <p:blipFill>
          <a:blip r:embed="rId1"/>
          <a:stretch/>
        </p:blipFill>
        <p:spPr>
          <a:xfrm>
            <a:off x="468360" y="279360"/>
            <a:ext cx="8280360" cy="635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lzmh06092101"/>
          <p:cNvPicPr/>
          <p:nvPr/>
        </p:nvPicPr>
        <p:blipFill>
          <a:blip r:embed="rId1"/>
          <a:stretch/>
        </p:blipFill>
        <p:spPr>
          <a:xfrm>
            <a:off x="684360" y="303120"/>
            <a:ext cx="7704000" cy="6194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lzmh060912"/>
          <p:cNvPicPr/>
          <p:nvPr/>
        </p:nvPicPr>
        <p:blipFill>
          <a:blip r:embed="rId1"/>
          <a:stretch/>
        </p:blipFill>
        <p:spPr>
          <a:xfrm>
            <a:off x="468360" y="498600"/>
            <a:ext cx="6983280" cy="5984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477760" y="3213000"/>
            <a:ext cx="139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损公肥私</a:t>
            </a:r>
            <a:endParaRPr b="1" lang="en-US" sz="4000" spc="-1" strike="noStrike">
              <a:solidFill>
                <a:srgbClr val="ff66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lzmh060811"/>
          <p:cNvPicPr/>
          <p:nvPr/>
        </p:nvPicPr>
        <p:blipFill>
          <a:blip r:embed="rId1"/>
          <a:stretch/>
        </p:blipFill>
        <p:spPr>
          <a:xfrm>
            <a:off x="755640" y="297000"/>
            <a:ext cx="7561440" cy="6465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lzmh060728"/>
          <p:cNvPicPr/>
          <p:nvPr/>
        </p:nvPicPr>
        <p:blipFill>
          <a:blip r:embed="rId1"/>
          <a:stretch/>
        </p:blipFill>
        <p:spPr>
          <a:xfrm>
            <a:off x="2190600" y="1285920"/>
            <a:ext cx="4762800" cy="4286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lzmh0929"/>
          <p:cNvPicPr/>
          <p:nvPr/>
        </p:nvPicPr>
        <p:blipFill>
          <a:blip r:embed="rId2"/>
          <a:stretch/>
        </p:blipFill>
        <p:spPr>
          <a:xfrm>
            <a:off x="2743200" y="2166840"/>
            <a:ext cx="3657600" cy="252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lzmh1206_2"/>
          <p:cNvPicPr/>
          <p:nvPr/>
        </p:nvPicPr>
        <p:blipFill>
          <a:blip r:embed="rId3"/>
          <a:stretch/>
        </p:blipFill>
        <p:spPr>
          <a:xfrm>
            <a:off x="2666880" y="1967040"/>
            <a:ext cx="3810240" cy="2923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lzmh060731"/>
          <p:cNvPicPr/>
          <p:nvPr/>
        </p:nvPicPr>
        <p:blipFill>
          <a:blip r:embed="rId4"/>
          <a:stretch/>
        </p:blipFill>
        <p:spPr>
          <a:xfrm>
            <a:off x="0" y="630360"/>
            <a:ext cx="8748720" cy="574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7:55:1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899-12-30T00:00:00Z</cp:lastPrinted>
  <dcterms:modified xsi:type="dcterms:W3CDTF">2013-04-13T20:25:25Z</dcterms:modified>
  <cp:revision>29</cp:revision>
  <dc:subject>主题班会课件(分28大类): http://shop62905894.taobao.com</dc:subject>
  <dc:title>主题班会课件(分28大类): http://shop62905894.taobao.com</dc:title>
</cp:coreProperties>
</file>